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5F63-E371-46B1-B23B-F6C7C467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2745-A19F-4307-9DEB-584DD055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732-AA0F-487F-8024-5917F4C7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824-D5F3-4E75-BA6C-4DAE41E2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078-D3CA-4912-A72F-8594DDB2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9F7-7131-4BB4-817D-A8B02122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A19-3226-47FF-AA3D-EE7DBB7C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0C08-DB42-4230-B839-C53A7190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6AC5-74C3-4200-912C-79C6BB4C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B78-ED30-4CEA-8C10-DC7681EC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382-516D-42C0-8BC8-69E68622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523-322E-440B-B87B-A80D2F98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3383-73E4-459D-8D31-3AB141AD0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USH Uni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ng Cotton / Slave Tra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310-3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tton’s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rn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lave Community / Resistance &amp; Revolt Pages 321-3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families and 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 of Nat Turner’s Revo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ern Social Structure / Defense of Slave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ages 328-3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8487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ocial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the Planter E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lavery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mig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418-4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s for 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ish Immigration vs. German Im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Machines / Revivalis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433-4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of Machine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the Reform M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, What, Why,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ts of Movements and Ide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438-4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son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/ Advo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opian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, 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m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, Why, Where &amp;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lition / Women’s Righ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442-4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lition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’s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1:46:24Z</dcterms:created>
  <dc:creator>School District U46</dc:creator>
  <dc:description/>
  <dc:language>en-US</dc:language>
  <cp:lastModifiedBy>School District U46</cp:lastModifiedBy>
  <dcterms:modified xsi:type="dcterms:W3CDTF">2009-10-20T11:46:40Z</dcterms:modified>
  <cp:revision>1</cp:revision>
  <dc:subject/>
  <dc:title>APUSH Unit 4</dc:title>
</cp:coreProperties>
</file>